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9.gif" ContentType="image/gif"/>
  <Override PartName="/ppt/media/image16.jpeg" ContentType="image/jpeg"/>
  <Override PartName="/ppt/media/image15.jpeg" ContentType="image/jpeg"/>
  <Override PartName="/ppt/media/image14.gif" ContentType="image/gif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8.png" ContentType="image/png"/>
  <Override PartName="/ppt/media/image11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D8DD-1FDB-4819-B599-682AC7E1C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61EC-0140-4797-8A60-C8819B250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3914-D424-4650-BFC5-3B6F287F5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9F6B-E774-4B67-A882-A1652573C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7E3A9-E511-426C-9027-CEE911E53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3E0D3-B20D-484D-BBAB-9961E8CCB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AF8F5-C8C6-4C58-A82B-108C47A35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EB8B8-228F-40D6-A54C-956F9BF61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D5BD4-B204-4D06-BC54-C1B1AD53D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C9898-3612-42E8-98A1-43E5BD24C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759CF-06CF-41D7-901F-7482B374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2510-D9FA-4E2B-AA32-B3F67465B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F3DD3-C8D9-4DE0-A15F-000F99AC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EA8AE-9BA0-42A2-A41D-9DF0FDBD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FE495-2ED5-4A90-9E97-730A0E476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37075-43E1-45BE-A823-A1FC4CE7A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B72B1-A191-4ABC-908A-9231F365A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0C4A4-6050-455C-B4D8-FD4C69442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79600-D0DC-4568-92F5-4CC4689ED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8A227-AF4C-4D67-88E1-3B9F748F6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8BFB7-A34C-4B60-8123-7245E9F43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D3BC4-ECF9-43BA-A32C-D571F1E68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FE09-71B5-445D-874B-D64FC120F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FE406-8CBF-488E-8B27-5165E2093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87DDF-7F5B-4F05-BCF9-82F737CD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A7670-2860-4BD4-8788-F6798303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C646A-4467-4411-A09E-CE864F22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23F6D-19E4-4531-A1D4-1032FA056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1773E-5D90-4386-86E4-9193E16AE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34694-9CAA-485A-845E-45562EEBA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3EC5-825D-41B9-9CC5-81B464AAE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15EA-33AD-4314-8EE6-0EBA6A823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93D3-5B4E-4F36-BF48-CDE5B3D1B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E65F-BBB8-4240-8173-67B37F3C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9662-D5FA-4E15-BD6E-DE1DE4AD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73E4-B32E-41BE-AB0A-511C4721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2A61B-B804-49D8-922C-732173D85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2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46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1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727CE-F64F-4522-9DDB-D9D194BD249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20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24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8DB46-71CF-4E27-804C-A3CB77B53A9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ff"/>
                </a:solidFill>
                <a:latin typeface="Ampir Deco"/>
              </a:rPr>
              <a:t>Чи дійсно Піфагор є автором теореми Піфагор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348000" y="5445000"/>
            <a:ext cx="560880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9900"/>
                </a:solidFill>
                <a:latin typeface="Aquarelle"/>
              </a:rPr>
              <a:t>Вся правда про Піфаго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9900"/>
                </a:solidFill>
                <a:latin typeface="Aquarelle"/>
              </a:rPr>
              <a:t>і не тільк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9600"/>
                            </p:stCondLst>
                            <p:childTnLst>
                              <p:par>
                                <p:cTn id="1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3500"/>
                            </p:stCondLst>
                            <p:childTnLst>
                              <p:par>
                                <p:cTn id="1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867200" y="981000"/>
            <a:ext cx="4276800" cy="501336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cc3399"/>
                </a:solidFill>
                <a:latin typeface="Arial"/>
              </a:rPr>
              <a:t>Чи може науковець абстрагуватись від політичного життя?</a:t>
            </a:r>
            <a:r>
              <a:rPr b="0" lang="ru-RU" sz="2200" spc="-1" strike="noStrike">
                <a:solidFill>
                  <a:srgbClr val="cc339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485928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0066"/>
                </a:solidFill>
                <a:latin typeface="Arial"/>
              </a:rPr>
              <a:t>В часи Піфагора в Давній Греції склалась дуже цікава політична ситуація. Тільки-но була скинута тиранія, і для захисту демократії в країні ввели процедуру остракізму. Це метод усунення від політичної діяльності надто впливових осіб, які теоретично могли узурпувати владу. Замість бюлетенів використовувались остракони – глиняні черепки, на яких писали ім’я того, к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ого</a:t>
            </a:r>
            <a:r>
              <a:rPr b="0" lang="uk-UA" sz="2400" spc="-1" strike="noStrike">
                <a:solidFill>
                  <a:srgbClr val="660066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 на думку </a:t>
            </a:r>
            <a:r>
              <a:rPr b="0" lang="uk-UA" sz="2400" spc="-1" strike="noStrike">
                <a:solidFill>
                  <a:srgbClr val="660066"/>
                </a:solidFill>
                <a:latin typeface="Arial"/>
              </a:rPr>
              <a:t>виборця, слід відправити у вигнання. Піфагор займав активну громадську позицію, і одну зі своїх книг, «Про державу», присвятив питанням політичного устро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c3300"/>
                </a:solidFill>
                <a:latin typeface="Arial"/>
              </a:rPr>
              <a:t>Чи можна виміряти дружбу?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-181440" y="1267920"/>
            <a:ext cx="93250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cc"/>
                </a:solidFill>
                <a:latin typeface="Arial"/>
              </a:rPr>
              <a:t>Піфагорійці вважали число мірою усіх речей. Число для Піфагора було і матерією, і формою всього світу. Усі матеріальні та нематеріальні сутності та поняття мали свою чисельну відповідність. Так, дружніми є числа, одне з яких дорівнює сумі дільників другого, менших за нього, і навпаки. Наприклад, дружніми є числа 220 та 284. А якщо число дорівнює сумі всіх менших за нього дільників, воно символізує досконалість. Досконалим є число 6. А найсильнішою клятвою біло число 10. Зв’язок реального світу з числовим відношенням заклав основу трьох гілок науки: теорії чисел, теорії музики та нумерології. На нашому сайті Ви можете дізнатись, яке число відповідає вам в житті.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1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Скільки знаків кореня з двох повинна знати освічена людина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оли піфагорійці виявили, що діагональ квадрата не вимірюється через його сторону, цей факт замовчувався, бо не узгоджувався з доктриною нумерології. Так було скрито цілу множину чисел, ірраціональні. Згодом вони зіграли значну роль в розвитку математи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8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660066"/>
                </a:solidFill>
                <a:latin typeface="Arial"/>
              </a:rPr>
              <a:t>В чому полягає гармонійний розвиток особистості?</a:t>
            </a:r>
            <a:r>
              <a:rPr b="0" lang="ru-RU" sz="40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0066"/>
                </a:solidFill>
                <a:latin typeface="Arial"/>
              </a:rPr>
              <a:t>Піфагор в своїй школі навчав розвивати як розумові, так і фізичні якості, подаючи власний приклад учням. Адже він був першим олімпійським чемпіоном з кулачного бою та навіть в досить похилому віці вів активний спосіб життя. До речі, ми дізналися, що датський фізик Нільс Бор та його брат математик Гаральд Бор, грали за збірну Данії в футбол, Альберт Ейнштейн захоплювався грою на скрипці. Інші цікаві факти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Вы можете знайти у нас на сайт</a:t>
            </a:r>
            <a:r>
              <a:rPr b="1" lang="uk-UA" sz="2800" spc="-1" strike="noStrike">
                <a:solidFill>
                  <a:srgbClr val="660066"/>
                </a:solidFill>
                <a:latin typeface="Arial"/>
              </a:rPr>
              <a:t>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Чи</a:t>
            </a: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 став світ тісним лиш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е з</a:t>
            </a: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 розвитком прогресу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Ми дізналися, що культурні зв’язки між країнами та народами можна здійснити не лише зараз, коли це не уявляє труднощів, але і в стародавні часи. Кругозір жителя Давньої Греції не обмежувався його полісом, а сягав інших далеких країн. Про це свідчать мандрівки Піфагора Єгиптом, Вавілоном та Індією. Також в ході дослідження до нас потрапила карта світу, що належала Олександру Македонському. Може здатися неймовірним, але на ній позначені обидві Америки, Австралія та Антарктида без льодовикового покрову. Як могли в ті часи здобути інформацію такої точності – до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сі</a:t>
            </a: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є </a:t>
            </a: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загадко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9900"/>
                </a:solidFill>
                <a:latin typeface="Arial"/>
              </a:rPr>
              <a:t>Чи залишилися актуальними філософські питання через 2500 років?</a:t>
            </a:r>
            <a:r>
              <a:rPr b="0" lang="ru-RU" sz="40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Вивчаючи вчення Піфагора, ми ознайомилися і з іншими філософськими течіями того часу. Тогочасні філософи ставили перед собою ті ж самі питання, що і сучасна передова наука. А саме: чи скінчений простір, що таке час, чи квантується він, як зародився Всесвіт, якою математичною моделлю можна описати процеси, що відбуваються навколо нас? І виявилося, що підходи давньогрецьких філософів в багатьом узгоджуються із сучасними уявленнями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0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66"/>
                </a:solidFill>
                <a:latin typeface="Arial"/>
              </a:rPr>
              <a:t>Таємниця нашого сайт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0066"/>
                </a:solidFill>
                <a:latin typeface="Arial"/>
              </a:rPr>
              <a:t>На нашому сайті Ви знайдете багато цікавого. Але, як Ви помітили, ми жодного разу не назвали його адресу. І це невипадков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0066"/>
                </a:solidFill>
                <a:latin typeface="Arial"/>
              </a:rPr>
              <a:t>Ми пропонуємо самостійно знайти його в інтернеті за нашою підказкою. Його адреса має вигляд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pX.narod.ru, 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де Х – сума двох </a:t>
            </a:r>
            <a:r>
              <a:rPr b="0" lang="uk-UA" sz="2800" spc="-1" strike="noStrike">
                <a:solidFill>
                  <a:srgbClr val="ff0066"/>
                </a:solidFill>
                <a:latin typeface="Arial"/>
              </a:rPr>
              <a:t>найменших десятицифрових дружніх чис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0066"/>
                </a:solidFill>
                <a:latin typeface="Arial"/>
              </a:rPr>
              <a:t>Удачі вам у пошуках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77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770" fill="hold"/>
                                        <p:tgtEl>
                                          <p:spTgt spid="2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0" dur="77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2" dur="77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ccecff"/>
                </a:solidFill>
                <a:latin typeface="Ampir Deco"/>
              </a:rPr>
              <a:t>Я  Михальська Ірина</a:t>
            </a: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50760" y="5754600"/>
            <a:ext cx="794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4360" y="4581360"/>
            <a:ext cx="705636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9900"/>
                </a:solidFill>
                <a:latin typeface="Aquarelle"/>
              </a:rPr>
              <a:t>Досліджувала чи можна виміряти дружбу  та яке значення надавав Піфагор числу.</a:t>
            </a:r>
            <a:r>
              <a:rPr b="0" lang="en-US" sz="3000" spc="-1" strike="noStrike">
                <a:solidFill>
                  <a:srgbClr val="ff9900"/>
                </a:solidFill>
                <a:latin typeface="Aquarelle"/>
              </a:rPr>
              <a:t> </a:t>
            </a:r>
            <a:r>
              <a:rPr b="0" lang="uk-UA" sz="3000" spc="-1" strike="noStrike">
                <a:solidFill>
                  <a:srgbClr val="ff9900"/>
                </a:solidFill>
                <a:latin typeface="Aquarelle"/>
              </a:rPr>
              <a:t>Я дуже цікавлюся гороскопами тому знайшла їх для вас та розмістила на сайті</a:t>
            </a:r>
            <a:r>
              <a:rPr b="0" lang="uk-UA" sz="2800" spc="-1" strike="noStrike">
                <a:solidFill>
                  <a:srgbClr val="ff9900"/>
                </a:solidFill>
                <a:latin typeface="Aquarelle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692360" y="692280"/>
            <a:ext cx="53276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9152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c0099"/>
                </a:solidFill>
                <a:latin typeface="Aquarelle"/>
              </a:rPr>
              <a:t>Я Попова Анастасі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79280" y="537372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00"/>
                </a:solidFill>
                <a:latin typeface="Ampir Deco"/>
              </a:rPr>
              <a:t>Чи залишилися актуальними філософські питання через</a:t>
            </a:r>
            <a:r>
              <a:rPr b="0" lang="en-US" sz="1800" spc="-1" strike="noStrike">
                <a:solidFill>
                  <a:srgbClr val="ffff00"/>
                </a:solidFill>
                <a:latin typeface="Ampir Deco"/>
              </a:rPr>
              <a:t> </a:t>
            </a:r>
            <a:r>
              <a:rPr b="0" lang="uk-UA" sz="1800" spc="-1" strike="noStrike">
                <a:solidFill>
                  <a:srgbClr val="ffff00"/>
                </a:solidFill>
                <a:latin typeface="Ampir Deco"/>
              </a:rPr>
              <a:t>2500 років після Піфагора мене дуже зацікавило</a:t>
            </a:r>
            <a:r>
              <a:rPr b="0" lang="en-US" sz="1800" spc="-1" strike="noStrike">
                <a:solidFill>
                  <a:srgbClr val="ffff00"/>
                </a:solidFill>
                <a:latin typeface="Ampir Deco"/>
              </a:rPr>
              <a:t>,</a:t>
            </a:r>
            <a:r>
              <a:rPr b="0" lang="uk-UA" sz="1800" spc="-1" strike="noStrike">
                <a:solidFill>
                  <a:srgbClr val="ffff00"/>
                </a:solidFill>
                <a:latin typeface="Ampir Deco"/>
              </a:rPr>
              <a:t> і я вивчала Давньогрецьку філософію та поділюся з вами своїми знахід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476360" y="907920"/>
            <a:ext cx="604044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0"/>
                            </p:stCondLst>
                            <p:childTnLst>
                              <p:par>
                                <p:cTn id="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66"/>
                </a:solidFill>
                <a:latin typeface="Ampir Deco"/>
              </a:rPr>
              <a:t>Я Антон Чередник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343800" y="5568840"/>
            <a:ext cx="862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mpir Deco"/>
              </a:rPr>
              <a:t>Мене  дуже зацікавили питання: а скільки ж  знаків числа корінь з двох повинна знати освічена людина</a:t>
            </a:r>
            <a:r>
              <a:rPr b="1" lang="uk-UA" sz="1800" spc="-1" strike="noStrike">
                <a:solidFill>
                  <a:srgbClr val="ffffff"/>
                </a:solidFill>
                <a:latin typeface="Symbol"/>
                <a:ea typeface="Symbol"/>
              </a:rPr>
              <a:t></a:t>
            </a:r>
            <a:r>
              <a:rPr b="0" lang="uk-UA" sz="1800" spc="-1" strike="noStrike">
                <a:solidFill>
                  <a:srgbClr val="ffffff"/>
                </a:solidFill>
                <a:latin typeface="Ampir Deco"/>
              </a:rPr>
              <a:t>Чи відбуваються у теперішній час замовчування  результатів наукових досліджен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476360" y="907920"/>
            <a:ext cx="604044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000"/>
                            </p:stCondLst>
                            <p:childTnLst>
                              <p:par>
                                <p:cTn id="6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9900"/>
                </a:solidFill>
                <a:latin typeface="Arlekino"/>
              </a:rPr>
              <a:t>Добрий день всім! Я Лук’янов</a:t>
            </a:r>
            <a:r>
              <a:rPr b="0" lang="en-US" sz="3200" spc="-1" strike="noStrike">
                <a:solidFill>
                  <a:srgbClr val="ff9900"/>
                </a:solidFill>
                <a:latin typeface="Arlekino"/>
              </a:rPr>
              <a:t> </a:t>
            </a:r>
            <a:r>
              <a:rPr b="0" lang="uk-UA" sz="3200" spc="-1" strike="noStrike">
                <a:solidFill>
                  <a:srgbClr val="ff9900"/>
                </a:solidFill>
                <a:latin typeface="Arlekino"/>
              </a:rPr>
              <a:t>Станіслав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08000" y="5516640"/>
            <a:ext cx="903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66ff"/>
                </a:solidFill>
                <a:latin typeface="Arlekino"/>
              </a:rPr>
              <a:t>Мене зацікавило</a:t>
            </a:r>
            <a:r>
              <a:rPr b="0" lang="en-US" sz="2000" spc="-1" strike="noStrike">
                <a:solidFill>
                  <a:srgbClr val="ff66ff"/>
                </a:solidFill>
                <a:latin typeface="Arlekino"/>
              </a:rPr>
              <a:t>,</a:t>
            </a:r>
            <a:r>
              <a:rPr b="0" lang="uk-UA" sz="2000" spc="-1" strike="noStrike">
                <a:solidFill>
                  <a:srgbClr val="ff66ff"/>
                </a:solidFill>
                <a:latin typeface="Arlekino"/>
              </a:rPr>
              <a:t> який внесок зробив Піфагор у розвиток музики та його вчення про гармонію. Крім того я відповів на питання: “Чи став світ тісним лише з розвитком прогресу?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547640" y="1197000"/>
            <a:ext cx="604872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3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3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ffff"/>
                </a:solidFill>
                <a:latin typeface="Aquarelle"/>
              </a:rPr>
              <a:t>Я Лєднєв Андрій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59280" y="62164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79280" y="5373720"/>
            <a:ext cx="896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c3300"/>
                </a:solidFill>
                <a:latin typeface="comic"/>
              </a:rPr>
              <a:t>Якщо вас зацікавить, у чому полягає гармонійній розвиток особистості, то звертайтесь до мене. Я знайшов дуже багато відомостей  не тільки  про Піфагора, як  кулачного бійця, а також і про захоплення інших  великих люд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547640" y="981000"/>
            <a:ext cx="57596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8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9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Опитування батьків учні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0" y="2286000"/>
          <a:ext cx="4211640" cy="315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0"/>
                    <a:ext cx="4211640" cy="31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4427640" y="2349360"/>
            <a:ext cx="4533840" cy="30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77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" dur="770" fill="hold"/>
                                        <p:tgtEl>
                                          <p:spTgt spid="2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6" dur="77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8" dur="77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3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0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1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2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3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Arial"/>
              </a:rPr>
              <a:t>Висновки робот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опрацювали велику кількість наукових першоджерел, інтернет сайтів, художньої літератур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дізнались багато цікавого не тільки з історії математики, але й про античну філософію, культуру та суспільств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едставляємо Вам стислий звіт про результати робот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808080"/>
                </a:solidFill>
                <a:latin typeface="Arial"/>
              </a:rPr>
              <a:t>Чи дійсно є Піфагор автором теореми Піфагора?</a:t>
            </a:r>
            <a:r>
              <a:rPr b="0" lang="ru-RU" sz="40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Arial"/>
              </a:rPr>
              <a:t>В результаті досліджень ми виявили, що теорема Піфагора була відома ще задовго до нього і існує слизько 500 доведень цієї теореми. Одне з найдавніших походить з Індії. Але відкриття та розуміння теореми проходило в декілька етапів. На думку Плутарха та Цицерона саме Піфагор зробив завершальний крок в її формулювання та доведенні. Нашою роботою зацікавились учні 8-А класу, і при вивчення теми «Теорема Піфагора», знайшли  інші методи її доведення. Вони провели конференцію, на якій були представлені більш ніж 20 способів доведення з різних епох та країн, інформацію щодо цього можете знайти на нашому сайті.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19:14:30Z</dcterms:created>
  <dc:creator>Izvalov</dc:creator>
  <dc:description/>
  <dc:language>en-US</dc:language>
  <cp:lastModifiedBy>Izvalov</cp:lastModifiedBy>
  <dcterms:modified xsi:type="dcterms:W3CDTF">2008-07-17T14:52:29Z</dcterms:modified>
  <cp:revision>30</cp:revision>
  <dc:subject/>
  <dc:title>Слайд 1</dc:title>
</cp:coreProperties>
</file>